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57145"/>
        <c:axId val="29076439"/>
      </c:barChart>
      <c:catAx>
        <c:axId val="49157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76439"/>
        <c:crosses val="autoZero"/>
        <c:auto val="1"/>
        <c:lblAlgn val="ctr"/>
        <c:lblOffset val="100"/>
        <c:noMultiLvlLbl val="0"/>
      </c:catAx>
      <c:valAx>
        <c:axId val="29076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57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207-2BE4-44AF-816D-6AC6B54B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FC9-397F-41BD-B0C7-8A9385FD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2A6-243F-4E8E-8871-CD559E66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120-3399-44C0-9AF0-B75203D4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4BC-4F99-4841-905D-2F76150C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395-E3B5-4721-89B3-1D1EFD77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890-C9D6-4E68-BB20-FC579201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D5F-F3EB-4019-A47E-4BAADF16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A7E-C604-47D3-BFA5-4346F0CA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163-5503-4CAB-AD8B-34AF8A2A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05D-1E59-4F45-B353-91819B6B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181-6D5B-4487-BB18-3CB491F3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0336A-902A-4D68-82CA-83128B2C0F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