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159008"/>
        <c:axId val="47430873"/>
      </c:barChart>
      <c:catAx>
        <c:axId val="56159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30873"/>
        <c:crosses val="autoZero"/>
        <c:auto val="1"/>
        <c:lblAlgn val="ctr"/>
        <c:lblOffset val="100"/>
        <c:noMultiLvlLbl val="0"/>
      </c:catAx>
      <c:valAx>
        <c:axId val="47430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59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AAF-CCD7-4F8C-BA9E-9F90853B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299-198D-4F0A-8214-ABC3496B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C90-0505-498E-A6E1-0D2DD0E1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F68B-8046-4C72-AE38-75EFD9F6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413-409D-4184-8286-7C765DB4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390-FB46-4776-8B7B-9FB088C6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90C-2212-4316-A662-51B7CFF4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EFD8-B370-479A-B47A-6ED18B06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C621-A773-4BEB-8F2D-EBB4646E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711-59F7-4E40-8D99-6B52E2CD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898-1274-4AF8-95B9-835B7A5A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A75-7A5E-4F2A-86D5-6C1EDB42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BF3E4-72D7-4FAE-A16B-96B9FF8C5D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