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73980"/>
        <c:axId val="1827827"/>
      </c:barChart>
      <c:catAx>
        <c:axId val="61073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7827"/>
        <c:crosses val="autoZero"/>
        <c:auto val="1"/>
        <c:lblAlgn val="ctr"/>
        <c:lblOffset val="100"/>
        <c:noMultiLvlLbl val="0"/>
      </c:catAx>
      <c:valAx>
        <c:axId val="1827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73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1F2-BBCF-4BE1-865F-B62EB4E8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C73-ABCF-444E-864E-B6AC64C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08C-E929-48C2-8537-F49F3C19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32B-F448-4620-8D6D-42F28B64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D8C-5FF9-483F-90C1-B08F431F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641-D548-4A65-A408-2A2EEDC8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0CF-6C76-4312-BE80-B2C2B4D2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3AB-E721-4E94-A93D-3A2C89B8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25C-2EE5-472A-A16D-D1EC5A16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292-198B-4F20-B212-4FBC4BBC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415-9F49-47A3-9344-0AD3E29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08F-B798-447B-A3FC-C2EF758B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9A754-0F1F-4F9B-911E-50727413D9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