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851413"/>
        <c:axId val="67137930"/>
      </c:barChart>
      <c:catAx>
        <c:axId val="568514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137930"/>
        <c:crosses val="autoZero"/>
        <c:auto val="1"/>
        <c:lblAlgn val="ctr"/>
        <c:lblOffset val="100"/>
        <c:noMultiLvlLbl val="0"/>
      </c:catAx>
      <c:valAx>
        <c:axId val="671379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8514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A2A0-6BBF-4DC8-A0C4-F801ED587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DFEC-AB67-42CC-A5A8-977F1A93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6010-0557-4179-B004-CA7015404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FF69-285D-4E60-ADDF-4D4F36624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5E59-D962-43DB-8306-6896AD4B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3ED3-C766-4A39-B29E-340F667A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A153-E881-4716-A29F-468F43C4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9C79-1C68-4B6A-9CB2-BAD6A469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2503-413E-4C37-8647-0BBBE6E3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7672-0F39-4613-9A91-ACCE99B8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BC47-193F-4A29-8613-54334CFE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AD27-4B14-4D03-ADB0-7FA99872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E3E39-6F2E-46D4-A41F-6F6220EDFB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