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167217"/>
        <c:axId val="27718666"/>
      </c:barChart>
      <c:catAx>
        <c:axId val="521672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718666"/>
        <c:crosses val="autoZero"/>
        <c:auto val="1"/>
        <c:lblAlgn val="ctr"/>
        <c:lblOffset val="100"/>
        <c:noMultiLvlLbl val="0"/>
      </c:catAx>
      <c:valAx>
        <c:axId val="277186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1672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F50B-AE44-4A3A-AEE7-E2E497D08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C47B-58E7-4474-8961-793508EA8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CBA4-09DF-4143-97FD-E85224C6A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177A-1EFD-4853-B0D3-F00307D6E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2C04-78F3-4F3A-8BD1-C5787AF29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5273-0A11-4CCA-8774-350BF9828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5FFD-E45C-41DC-9904-E5E67623A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B255-6A7B-4C12-A17D-D5D585DFD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20D2-1A30-49B0-8283-13543FE76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271B-7993-468B-8F5E-719442C1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6B1A-FFE1-43FE-9960-12F37122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023D-FC8F-4471-9B02-6BC4BB58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698791-E901-467B-88FA-7E4E081194E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