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13220"/>
        <c:axId val="13394206"/>
      </c:barChart>
      <c:catAx>
        <c:axId val="731132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94206"/>
        <c:crosses val="autoZero"/>
        <c:auto val="1"/>
        <c:lblAlgn val="ctr"/>
        <c:lblOffset val="100"/>
        <c:noMultiLvlLbl val="0"/>
      </c:catAx>
      <c:valAx>
        <c:axId val="133942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132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CE08-9068-4A23-9BE6-65C1CDE30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983E-3C1F-4586-A538-06C617F7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153E-2C3A-427E-9901-7E4E9844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6D9C-4047-4956-B2DB-F9C703D8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B132-DE9B-4452-BB76-1EBFF3A5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FC04-4C86-4F0D-92BE-041B9D84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DC14-6DC2-4640-B1ED-44D87D01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3FBD-EC3E-4D2A-8927-0CC29D8A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F028-F78B-41C2-8B94-00D172FC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7DBE-36A8-422F-A6D2-AE838A4E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059C-CEDB-41B6-A0BB-40A638B3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54F0-CDD3-4348-9255-39BFC894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226DD-6F45-4542-9394-0C4FA9C52D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