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64082"/>
        <c:axId val="10608791"/>
      </c:barChart>
      <c:catAx>
        <c:axId val="227640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8791"/>
        <c:crosses val="autoZero"/>
        <c:auto val="1"/>
        <c:lblAlgn val="ctr"/>
        <c:lblOffset val="100"/>
        <c:noMultiLvlLbl val="0"/>
      </c:catAx>
      <c:valAx>
        <c:axId val="10608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640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1862-3EEC-4748-9273-AEDD5B7D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2B3-F5CD-4F67-9000-5B4707E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45CA-C304-4864-8E85-E9314630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8812-614B-4009-B6BE-82B3729F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65B-2D30-4696-96C5-449635A0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E8F7-D419-4D2D-B02D-9B7B8B63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3911-8AB0-46CF-BD81-260892AA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378-521C-4860-9902-AF530F94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962C-684F-4AEF-9857-931FA30E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791-0EC9-4ECA-B617-4EAB46E3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AD0-BA43-41BE-BAF1-98DAB60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FA4-F732-432D-9BDE-1683B8CB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B9357-E330-45D3-BA3B-90C918DD20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