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13107"/>
        <c:axId val="23977113"/>
      </c:barChart>
      <c:catAx>
        <c:axId val="85213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77113"/>
        <c:crosses val="autoZero"/>
        <c:auto val="1"/>
        <c:lblAlgn val="ctr"/>
        <c:lblOffset val="100"/>
        <c:noMultiLvlLbl val="0"/>
      </c:catAx>
      <c:valAx>
        <c:axId val="23977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13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62F-2DE9-4CC9-9139-97FE3047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EFD-AA65-44E3-9354-DBEC27CD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995-99B7-4857-9331-5EBF133D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3F7-080D-4053-B3B0-0D37ABC9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F21-DC88-44B2-A034-04B4701B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7D4-E0F0-4F50-87D9-76A0700D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53B-FC9E-4B4A-AAE9-D3E769D9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F2E-1660-490E-8114-1DC6B1D9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CB0-E83A-47F2-BDF6-1952947D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E78-6346-40C7-B4B0-65D513CA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14B-DC26-4308-B7A5-DFD23A66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395-48DB-422C-86D6-4AFEA86D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290FE-A12B-4660-9098-6DE91A0DCA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