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17798"/>
        <c:axId val="56571121"/>
      </c:barChart>
      <c:catAx>
        <c:axId val="89117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1121"/>
        <c:crosses val="autoZero"/>
        <c:auto val="1"/>
        <c:lblAlgn val="ctr"/>
        <c:lblOffset val="100"/>
        <c:noMultiLvlLbl val="0"/>
      </c:catAx>
      <c:valAx>
        <c:axId val="5657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17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ABC-C90B-4B99-A3FE-BA08F82E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FC0-23B2-43D4-94D5-6519FEF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73D-482A-4D5D-B2ED-203DC50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CAE-EF1A-4B6D-90EB-E6B9589D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77D-366B-4C5D-A559-CCC3C73F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3F3-3A5F-4714-A1F7-BD44388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D73-D323-414E-AD5E-936A54A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262-4F3B-4E09-B7D0-7C59B377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505-AE9F-4947-9F5E-7DB0286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B4D-E775-448A-A9C9-9682CD0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0B8-AC87-4D99-9F79-A207ABB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5F5-C0D7-4398-8F3A-88CCEB7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173E-5B20-4975-AAF4-9FDAA2BF8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