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9854"/>
        <c:axId val="42885540"/>
      </c:barChart>
      <c:catAx>
        <c:axId val="1749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85540"/>
        <c:crosses val="autoZero"/>
        <c:auto val="1"/>
        <c:lblAlgn val="ctr"/>
        <c:lblOffset val="100"/>
        <c:noMultiLvlLbl val="0"/>
      </c:catAx>
      <c:valAx>
        <c:axId val="42885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9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CCE-EF4E-45ED-9D1B-BE66830E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987-2066-4CA3-878B-2C9AC60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951-7D40-4A4A-9DFC-2A3BEF4E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C68-A364-4B1A-8164-AFFE4166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6EA-38A2-4DA3-8BEC-58B09E0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FB5-F289-4EF6-B4E0-7604705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66D-8921-4ED5-A68E-968A063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0DE-DAF9-4C3D-9E25-D42B29F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016-0C8D-4539-8309-E0D5AE66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8DB-8B92-4033-855D-28938F1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478-48B8-4222-BB0E-E41102D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9D3-24DC-4B10-8A8A-B534994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A3A93-0C5F-43AA-8911-295B53DA0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