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40890"/>
        <c:axId val="56878609"/>
      </c:barChart>
      <c:catAx>
        <c:axId val="85640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8609"/>
        <c:crosses val="autoZero"/>
        <c:auto val="1"/>
        <c:lblAlgn val="ctr"/>
        <c:lblOffset val="100"/>
        <c:noMultiLvlLbl val="0"/>
      </c:catAx>
      <c:valAx>
        <c:axId val="56878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0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C61-6B4B-4345-8667-099A4901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333-FE6F-4531-952E-D160A353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289-3C5D-47E3-B309-CC637373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0B7-78FC-4A39-B327-37FB7574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D6F-0510-4A60-AEAE-EE697306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CCD-AB2B-4770-AB2C-3597A08A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444-3539-4490-A6C7-115BF1A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606-B68C-4118-A941-AEF649AE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037-5756-4E64-A283-D8C7391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C9D-3138-4C61-B83D-D2DF37CB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BE8-EBEF-46FA-A8F9-433BEE63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54F-F82E-45EF-BF1D-3385AE1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8883B-F028-4A09-8E69-513135C891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