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4365851"/>
        <c:axId val="72867861"/>
      </c:barChart>
      <c:catAx>
        <c:axId val="1436585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867861"/>
        <c:crosses val="autoZero"/>
        <c:auto val="1"/>
        <c:lblAlgn val="ctr"/>
        <c:lblOffset val="100"/>
        <c:noMultiLvlLbl val="0"/>
      </c:catAx>
      <c:valAx>
        <c:axId val="7286786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36585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F6C6-03D3-4F26-B6BB-3C9E1D797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D75C-4D63-4C25-9D1D-69D69AD3C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4F69-858B-4ABB-9A86-13DBCA5E3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ED28-46C1-4B2A-8E8E-120ACFCA8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8D73-973F-4D5E-943E-3CAC309CC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902C-65C8-44F8-A113-F1772457A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AA5F-4F51-47D5-B488-4819D5C04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8801-0496-4787-A0B4-CD99BEF1B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2000-A825-4BEA-995B-940CC5EAE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DC4E-F6BB-4D64-A682-B526224FC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0268-64BD-4320-8F6F-A4FA425E3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C68E-CE5D-45A3-8BCE-C1B206221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CBFF4E-6CE1-47CA-8B86-DD1338C5283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