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785450"/>
        <c:axId val="40880878"/>
      </c:barChart>
      <c:catAx>
        <c:axId val="427854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80878"/>
        <c:crosses val="autoZero"/>
        <c:auto val="1"/>
        <c:lblAlgn val="ctr"/>
        <c:lblOffset val="100"/>
        <c:noMultiLvlLbl val="0"/>
      </c:catAx>
      <c:valAx>
        <c:axId val="408808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7854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1CCE-A501-43E9-A18F-30A847B1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E8A5-5B9E-4F5B-B23C-F4952BCF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DCB4-5281-4251-860C-3CED7B0BB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6EDF-9C15-490D-BC3B-895CE5B37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AA6E-70D3-4A21-B3BD-6189B774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34E0-D2B2-439E-A533-259DFE10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513A-B9B2-440F-9AF6-E2BD01AE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A318-B91D-425D-AE90-31DC4256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B1AE-9A28-48FA-BB65-9D5AE70F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0F4C-9439-44C4-A19E-38A8F5A4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D40C-5651-46DF-AE23-8EC45F1A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97F4-A82A-4BF6-A1E5-07F69891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35694-DC63-44AB-BA04-ECB9596131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