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48102"/>
        <c:axId val="48745092"/>
      </c:barChart>
      <c:catAx>
        <c:axId val="14481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745092"/>
        <c:crosses val="autoZero"/>
        <c:auto val="1"/>
        <c:lblAlgn val="ctr"/>
        <c:lblOffset val="100"/>
        <c:noMultiLvlLbl val="0"/>
      </c:catAx>
      <c:valAx>
        <c:axId val="487450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481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D9FC-7A9E-4753-9472-D2CE2C3CD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0A1F-6E98-4B65-AFBA-07E8178B9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33A8-BE88-46C2-8E60-497889BC4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ADB5-8E95-4716-A541-E5162C6CB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ED8B-9D1C-413D-8E9E-EEB404195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727A-7F48-43B5-85F1-CA28973D7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B02D-2805-47C1-8CA7-DEA03A385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0F0C-DD28-4F5E-B289-2299E8CB1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5B0E-7E8F-441D-BAAF-875493712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032A-4371-46A4-A7D6-DBEA5FCA3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C92F-4473-4AAE-AD8F-384DC72C6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C31E-2B4D-4F80-AFE3-303109BE7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D1C949-2B52-466D-B2F4-23F162BF1F7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