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151968"/>
        <c:axId val="75124380"/>
      </c:barChart>
      <c:catAx>
        <c:axId val="981519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24380"/>
        <c:crosses val="autoZero"/>
        <c:auto val="1"/>
        <c:lblAlgn val="ctr"/>
        <c:lblOffset val="100"/>
        <c:noMultiLvlLbl val="0"/>
      </c:catAx>
      <c:valAx>
        <c:axId val="751243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519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8EE1-4802-4116-BE7B-B85ED6ED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2C1E-B248-49BC-B158-02CF9397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EFB3-99F7-4E1B-95E8-73A77ED9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395-7B9C-4151-8E32-8BEF7107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33B-6F38-4FE3-AB35-18F48B36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D997-A155-49A6-92F6-DBD065C8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7924-A82C-45E3-AEE7-FE92291E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19A2-482C-4AD4-BBD1-F01B44C1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F8CB-5B6E-4475-9CAA-40CE7DAC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9A8E-93A2-41E7-931F-2424215A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D787-5669-4588-AD07-0B145819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31A7-7238-4270-B0F7-59951D4E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C789C-6E56-4C16-8C07-7016B27833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