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07513"/>
        <c:axId val="65656035"/>
      </c:barChart>
      <c:catAx>
        <c:axId val="49607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56035"/>
        <c:crosses val="autoZero"/>
        <c:auto val="1"/>
        <c:lblAlgn val="ctr"/>
        <c:lblOffset val="100"/>
        <c:noMultiLvlLbl val="0"/>
      </c:catAx>
      <c:valAx>
        <c:axId val="65656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07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C9E-3609-4ED2-9CB2-638C65CA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B77-D79A-4A2A-B620-8E4AE0A2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D39-2E30-494C-AA21-8683C5DF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DDE-EF29-4DF5-8DD4-F8CDD41C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57C-6664-4474-AF9B-4BF02891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5D2-1366-4BF0-BDEA-3981AFFA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9A9-0D96-4C0B-B1D1-AA111834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6A0-66CD-4944-95A6-738862A2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38F-7D25-4660-96C0-F1276EEA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BF6-E1FD-4F06-A56C-43BA5168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BA1-F7B9-479D-A1B4-DF020F58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A261-F388-4404-9538-8EC877CF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F9FCA-E2CF-47CA-A37D-C31C51F8AE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