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202095"/>
        <c:axId val="83667814"/>
      </c:barChart>
      <c:catAx>
        <c:axId val="762020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67814"/>
        <c:crosses val="autoZero"/>
        <c:auto val="1"/>
        <c:lblAlgn val="ctr"/>
        <c:lblOffset val="100"/>
        <c:noMultiLvlLbl val="0"/>
      </c:catAx>
      <c:valAx>
        <c:axId val="836678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020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7569-5DF1-4FCF-8E81-C7A2B3AF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FA8E-FFF9-4462-B52D-A0AEF43F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DB81-E7BC-47C5-80B0-424D46A64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8769-DE2C-402F-87A2-DC5613163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A0BC-C73C-4E5F-B638-45364025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2C45-5C62-4FAF-AE5E-9BB7A229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24E1-F27D-4ACC-AC19-B2F07CAB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9667-8A70-463F-9984-6E111E4B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DDAC-ADC8-497F-8058-8CC973F4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C40F-8238-4392-B571-A3FCF05D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7DB6-3DF2-4BE0-B6AF-FEAC9677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8F10-712A-412C-A4C8-E6389598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8C91F-0516-4A76-A233-BFE4FE1886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