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90163"/>
        <c:axId val="84028685"/>
      </c:barChart>
      <c:catAx>
        <c:axId val="21190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28685"/>
        <c:crosses val="autoZero"/>
        <c:auto val="1"/>
        <c:lblAlgn val="ctr"/>
        <c:lblOffset val="100"/>
        <c:noMultiLvlLbl val="0"/>
      </c:catAx>
      <c:valAx>
        <c:axId val="84028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90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027-398B-4E6D-9A24-5E673669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201-0D33-4A5C-870B-1AB7D141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B2F-C385-434A-AF59-56F1805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22D-68AA-454D-9791-03DAEEFF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314-B9AE-49F8-92B6-F61FC84B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0B9-E606-4190-83F5-821CEF28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38A-69D1-4736-9BB6-D56FBC2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1DC-79D3-407E-935A-E248DC0E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909-2B71-4FEA-B4B7-065EA3D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8C2-1C4A-4676-BA49-9647D70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DCD-E39A-4355-9A43-7BB531A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25C-48A8-4ED3-B8B8-EAFC865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A00AA-22A7-43FE-B88C-256B22A263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