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76472"/>
        <c:axId val="89886734"/>
      </c:barChart>
      <c:catAx>
        <c:axId val="30076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86734"/>
        <c:crosses val="autoZero"/>
        <c:auto val="1"/>
        <c:lblAlgn val="ctr"/>
        <c:lblOffset val="100"/>
        <c:noMultiLvlLbl val="0"/>
      </c:catAx>
      <c:valAx>
        <c:axId val="89886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76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18B-1B2B-41B2-8AE7-E604EE01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FDF-0F66-4DAC-B4FB-820C3D56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128B-F69E-4B5E-B1EF-FA5E155E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85E-DD17-4660-91B6-DB6C6F49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2C67-0129-4A99-9886-E3F4B82F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A39-E598-4FEE-A606-848F7707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29E-34B2-40AF-854C-A62A158F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A84B-E1AF-4EFD-A0F3-CA134536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2F3-4598-45C8-8F01-3468514C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9311-B1CE-4C1B-B67A-07B98A8C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230-05D2-4512-BB67-B91586AD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6AB-FDF2-485B-871D-8499829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9DE2E-8B2D-49A2-81CA-39AE1AA897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