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1984"/>
        <c:axId val="46828709"/>
      </c:barChart>
      <c:catAx>
        <c:axId val="59981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8709"/>
        <c:crosses val="autoZero"/>
        <c:auto val="1"/>
        <c:lblAlgn val="ctr"/>
        <c:lblOffset val="100"/>
        <c:noMultiLvlLbl val="0"/>
      </c:catAx>
      <c:valAx>
        <c:axId val="46828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1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8C9-7C08-4056-AB3B-0994EDBC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D00-670B-4399-8907-03A77E56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08F-6EC7-428B-92D4-7259A67C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E62-615E-4C0F-8E8D-B3DB6793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694-FED9-4FCD-9B43-43F3F52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A75-BD2E-4E5C-9998-E7E44A42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DC5-B08B-49B4-8B49-B1D297DC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1D6-B51A-4705-B32F-F68E758D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52F-8D9A-4442-BDC7-470D594F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B854-F7DC-4D5A-A89B-C278BC0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BFC-425D-4C92-953E-7DAB4F72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488-0D59-47B1-8B73-A8A084BA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71429-14AD-41A3-94F0-982A4A460F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